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544-DC37-496D-A934-E6F05F9D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1C5-7D54-40C6-AA01-D5919F9E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63D-D7AA-477D-9474-265EE0EA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885-AA2F-436B-A194-61947EB6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71B7-EAB4-4EFC-AEB5-48E94FEB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E9D3-F66A-466B-B4D3-F2957F8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CD00-AF9E-425E-903E-8DC0253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50D-17C6-4B86-A788-0EC7B703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8CDD-B7E9-4BA0-BA30-985AD07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1CFB-D160-41E1-BFD1-93451968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64D-993B-426D-BB7E-E6FF872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601-2281-47B5-A41F-F79323E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A1F5-6903-46EC-A305-3D4E069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7D7E-44CA-4779-8C6A-CD1219A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AE4-FF32-4DAA-97BB-9A880DE3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1C7E-2BFD-40F4-99EC-C83C1CF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A3E-84A7-4AA2-9502-0F3B9824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6215-C602-4FD0-8932-CB9CA8C7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15DF-3216-47A9-A5F9-2BEE678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FBD3-7412-4481-9C82-D0987EFF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0E34-B193-433C-9A85-03D5A92C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299C-4F61-4201-BA81-75DFADD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462-29A0-4459-BECC-F9753D4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68AD-4046-48A7-8EE5-53F6A3B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D7ED-70AE-4CE5-94FD-490C157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D389-0442-4C21-8767-A50C9CA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70F2-FBCF-4E17-9244-275C093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5E01-F45E-4D49-929E-C43AB97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6131-9DB6-4341-AB66-5FAE2BB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A58D-A828-49BB-89D6-4576BAA1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7915-7D9C-4B80-BC76-EC0CC5DF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A358-7A64-4E7D-B138-02F3D526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1804-2981-487D-BC82-3B35E05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746-E121-4F7D-A0E4-60D3CA61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A2ABC-A19E-480B-A88B-DA72BF2E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3286-A593-4B24-BFE9-397FA7F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709F-18EA-4FAA-A988-0760D64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B40A-1BB7-4A24-ADF5-8F1C107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B20C-05E4-455D-A532-30D52D2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70F2-24DB-4C68-8D14-BFA8A10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A361-75F1-45AD-B0DE-65DCBEF2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BACB-10A9-4697-BC85-10335350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E367-F8A0-4B95-926B-5893978F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5C5F-67B1-460C-B026-6A83B3F4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E47-28CF-4AFD-92DE-D12FA69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5097-1A6A-48BA-B399-3F594A9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19F1-F3F6-4B4D-8B85-8D1B2960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948B8-B8C5-443F-A29A-9FDD532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0C3D-C116-46BA-8AB4-7336BB5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FDBA-07C7-4D9B-87B6-B121D5B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C95F-A172-4318-9600-250F7F7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8942-81AB-4B56-AC42-47FBF26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B686-81E1-4C4A-8B6B-A09575B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0A42-943B-4BE1-B1BB-7125AAB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1E08-7B8E-4862-9A60-F3187B35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B40-351A-4110-9CB3-6A1D146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7CBA-4A22-43AD-892A-1420D112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E61-89E9-415A-AB33-7677310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E0B-2614-4F62-BDEC-9C758FC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199-A942-4743-8F6A-B08A37A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A7B-E653-4726-9954-BCE5581905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EEE-9B48-483C-97B2-4F4C07BE66A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D89-F3ED-4F38-9E96-1E47841683A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433-2548-40ED-899A-0D293173FDA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A4D7-9370-4AAB-8F81-9B3EFA65082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240" y="457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DNA2"/>
          <p:cNvPicPr/>
          <p:nvPr/>
        </p:nvPicPr>
        <p:blipFill>
          <a:blip r:embed="rId1"/>
          <a:stretch/>
        </p:blipFill>
        <p:spPr>
          <a:xfrm>
            <a:off x="6141960" y="3657600"/>
            <a:ext cx="2849760" cy="3186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1080" y="3897360"/>
            <a:ext cx="2819520" cy="27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sr-CS" sz="25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500"/>
            </a:br>
            <a:br>
              <a:rPr sz="2500"/>
            </a:br>
            <a:r>
              <a:rPr b="1" lang="sr-Latn-CS" sz="25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10:01:54Z</dcterms:modified>
  <cp:revision>101</cp:revision>
  <dc:subject/>
  <dc:title>2-Humani genom</dc:title>
</cp:coreProperties>
</file>